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C1F-457C-4A23-ADA4-29752BF3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85A-A93A-4130-A207-ED82A80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686-AD4E-47CE-AC45-571D5584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CBE-76DD-45CE-9F54-A2FDDA4B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10C-3DC8-4571-8D02-20FC9859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2B1-E39B-481E-9B98-709CBF0E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57F-033A-478B-AB65-F4760824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BED-1828-4ADC-A310-DD115308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64A-6AFD-4CC0-87C3-66DCC7CF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6DC-D0AF-43D5-B786-7C8B64FA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D59-DF2D-482D-8C66-9D595BE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07D-2FEC-4D2E-A61C-95C0689B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ED51-4868-4BFD-A42D-982D49091F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88880" y="836640"/>
            <a:ext cx="824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08000" y="3892680"/>
            <a:ext cx="4967640" cy="2560680"/>
          </a:xfrm>
          <a:prstGeom prst="rect">
            <a:avLst/>
          </a:prstGeom>
          <a:ln w="0">
            <a:noFill/>
          </a:ln>
        </p:spPr>
      </p:pic>
      <p:sp>
        <p:nvSpPr>
          <p:cNvPr id="180" name="Rechteck 1"/>
          <p:cNvSpPr/>
          <p:nvPr/>
        </p:nvSpPr>
        <p:spPr>
          <a:xfrm>
            <a:off x="576360" y="115920"/>
            <a:ext cx="7956360" cy="34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Mercedes Blu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Schneller von heute nach morgen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axime: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de-CH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O statt CO</a:t>
            </a:r>
            <a:r>
              <a:rPr b="1" lang="de-CH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s Abgase wird lediglich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Wasserdampf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usgestos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Arial"/>
              </a:rPr>
              <a:t>«Somit ist der Weg in eine emmissionsfreie Zukunft nicht mehr weit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Der Wasserstoff wird bei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700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bar gespeichert und erlaub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ine Reichweite von 400 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allmystery.de/dateien/gg4570,1288121076,APRb02.JPG"/>
          <p:cNvPicPr/>
          <p:nvPr/>
        </p:nvPicPr>
        <p:blipFill>
          <a:blip r:embed="rId1"/>
          <a:stretch/>
        </p:blipFill>
        <p:spPr>
          <a:xfrm>
            <a:off x="603360" y="33336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88880" y="836640"/>
            <a:ext cx="824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908000" y="3892680"/>
            <a:ext cx="4967640" cy="256068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576360" y="115920"/>
            <a:ext cx="79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Mercedes Blu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Schneller von heute nach morgen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axim: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xhaust fumes:  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hydrogen storage at a pressure of ____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ruising range:  ____ 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I:\verne-20000.png"/>
          <p:cNvPicPr/>
          <p:nvPr/>
        </p:nvPicPr>
        <p:blipFill>
          <a:blip r:embed="rId1"/>
          <a:stretch/>
        </p:blipFill>
        <p:spPr>
          <a:xfrm>
            <a:off x="2771640" y="189000"/>
            <a:ext cx="374508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6060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00000" y="620640"/>
          <a:ext cx="7417080" cy="535464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365040"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bstance/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nergy density in MJ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3600"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denosintriphosphat (AT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06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leiakkumu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iMH-Ak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-Ionen-Ak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36–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kali-Mangan-Batt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-Polymer-Ak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asserstoff (inkl. Hydridt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a. 1,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Erdbeerjoghu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448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tha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teinkoh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enz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asserstoff (ohne T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etup of a PEM 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71640" y="2708280"/>
            <a:ext cx="1439640" cy="288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11280" y="2708280"/>
            <a:ext cx="1440000" cy="28814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732720" y="2708280"/>
            <a:ext cx="1439640" cy="288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292720" y="2708280"/>
            <a:ext cx="1440000" cy="288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51280" y="2708280"/>
            <a:ext cx="1440000" cy="2881440"/>
          </a:xfrm>
          <a:prstGeom prst="rect">
            <a:avLst/>
          </a:prstGeom>
          <a:solidFill>
            <a:srgbClr val="f4f4a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987640" y="1844640"/>
            <a:ext cx="216000" cy="8636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5940360" y="1844640"/>
            <a:ext cx="216000" cy="8636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987640" y="1628640"/>
            <a:ext cx="3168720" cy="2160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2987640" y="184464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5940360" y="184464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5940360" y="270828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2987640" y="270828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4140360" y="1484280"/>
            <a:ext cx="792000" cy="5763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4140360" y="1557360"/>
            <a:ext cx="792000" cy="358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2411280" y="2924280"/>
            <a:ext cx="0" cy="4334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3851280" y="2997360"/>
            <a:ext cx="0" cy="4316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2411280" y="364500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2411280" y="4365720"/>
            <a:ext cx="0" cy="2872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3851280" y="3716280"/>
            <a:ext cx="0" cy="2890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3851280" y="4437000"/>
            <a:ext cx="0" cy="2872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>
            <a:off x="2411280" y="4941720"/>
            <a:ext cx="0" cy="2876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3851280" y="5013360"/>
            <a:ext cx="0" cy="2872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>
            <a:off x="5292720" y="306864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292720" y="371628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292720" y="443700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5292720" y="5084640"/>
            <a:ext cx="0" cy="2890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6732720" y="364500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6732720" y="4365720"/>
            <a:ext cx="0" cy="3585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6732720" y="4941720"/>
            <a:ext cx="0" cy="35892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4"/>
          <p:cNvSpPr/>
          <p:nvPr/>
        </p:nvSpPr>
        <p:spPr>
          <a:xfrm rot="10800000">
            <a:off x="2916360" y="2923920"/>
            <a:ext cx="433440" cy="4316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8172360" y="3068640"/>
            <a:ext cx="432000" cy="216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8"/>
          <p:cNvSpPr/>
          <p:nvPr/>
        </p:nvSpPr>
        <p:spPr>
          <a:xfrm>
            <a:off x="8172360" y="3068640"/>
            <a:ext cx="0" cy="216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9"/>
          <p:cNvGrpSpPr/>
          <p:nvPr/>
        </p:nvGrpSpPr>
        <p:grpSpPr>
          <a:xfrm>
            <a:off x="539640" y="3068640"/>
            <a:ext cx="451440" cy="216000"/>
            <a:chOff x="539640" y="3068640"/>
            <a:chExt cx="451440" cy="216000"/>
          </a:xfrm>
        </p:grpSpPr>
        <p:sp>
          <p:nvSpPr>
            <p:cNvPr id="83" name="Rectangle 40"/>
            <p:cNvSpPr/>
            <p:nvPr/>
          </p:nvSpPr>
          <p:spPr>
            <a:xfrm>
              <a:off x="539640" y="3068640"/>
              <a:ext cx="432000" cy="216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AutoShape 41"/>
            <p:cNvCxnSpPr>
              <a:stCxn id="83" idx="3"/>
              <a:endCxn id="83" idx="3"/>
            </p:cNvCxnSpPr>
            <p:nvPr/>
          </p:nvCxnSpPr>
          <p:spPr>
            <a:xfrm>
              <a:off x="990360" y="317628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" name="Line 42"/>
            <p:cNvSpPr/>
            <p:nvPr/>
          </p:nvSpPr>
          <p:spPr>
            <a:xfrm flipV="1">
              <a:off x="971640" y="3068640"/>
              <a:ext cx="0" cy="216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3"/>
            <p:cNvSpPr/>
            <p:nvPr/>
          </p:nvSpPr>
          <p:spPr>
            <a:xfrm>
              <a:off x="539640" y="3068640"/>
              <a:ext cx="0" cy="216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Line 44"/>
          <p:cNvSpPr/>
          <p:nvPr/>
        </p:nvSpPr>
        <p:spPr>
          <a:xfrm>
            <a:off x="8604360" y="3068640"/>
            <a:ext cx="0" cy="216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5"/>
          <p:cNvSpPr/>
          <p:nvPr/>
        </p:nvSpPr>
        <p:spPr>
          <a:xfrm>
            <a:off x="395280" y="321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0" y="3068640"/>
            <a:ext cx="82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Lu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8686800" y="29973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8"/>
          <p:cNvSpPr/>
          <p:nvPr/>
        </p:nvSpPr>
        <p:spPr>
          <a:xfrm flipH="1">
            <a:off x="8172000" y="3213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9"/>
          <p:cNvGrpSpPr/>
          <p:nvPr/>
        </p:nvGrpSpPr>
        <p:grpSpPr>
          <a:xfrm>
            <a:off x="539640" y="4724280"/>
            <a:ext cx="451440" cy="360000"/>
            <a:chOff x="539640" y="4724280"/>
            <a:chExt cx="451440" cy="360000"/>
          </a:xfrm>
        </p:grpSpPr>
        <p:sp>
          <p:nvSpPr>
            <p:cNvPr id="93" name="Rectangle 50"/>
            <p:cNvSpPr/>
            <p:nvPr/>
          </p:nvSpPr>
          <p:spPr>
            <a:xfrm>
              <a:off x="539640" y="4724280"/>
              <a:ext cx="432000" cy="36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AutoShape 51"/>
            <p:cNvCxnSpPr>
              <a:stCxn id="93" idx="3"/>
              <a:endCxn id="93" idx="3"/>
            </p:cNvCxnSpPr>
            <p:nvPr/>
          </p:nvCxnSpPr>
          <p:spPr>
            <a:xfrm>
              <a:off x="990360" y="49039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" name="Line 52"/>
            <p:cNvSpPr/>
            <p:nvPr/>
          </p:nvSpPr>
          <p:spPr>
            <a:xfrm flipV="1">
              <a:off x="97164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3"/>
            <p:cNvSpPr/>
            <p:nvPr/>
          </p:nvSpPr>
          <p:spPr>
            <a:xfrm>
              <a:off x="53964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54"/>
          <p:cNvGrpSpPr/>
          <p:nvPr/>
        </p:nvGrpSpPr>
        <p:grpSpPr>
          <a:xfrm>
            <a:off x="8172360" y="4724280"/>
            <a:ext cx="451440" cy="360000"/>
            <a:chOff x="8172360" y="4724280"/>
            <a:chExt cx="451440" cy="360000"/>
          </a:xfrm>
        </p:grpSpPr>
        <p:sp>
          <p:nvSpPr>
            <p:cNvPr id="98" name="Rectangle 55"/>
            <p:cNvSpPr/>
            <p:nvPr/>
          </p:nvSpPr>
          <p:spPr>
            <a:xfrm>
              <a:off x="8172360" y="4724280"/>
              <a:ext cx="432000" cy="36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AutoShape 56"/>
            <p:cNvCxnSpPr>
              <a:stCxn id="98" idx="3"/>
              <a:endCxn id="98" idx="3"/>
            </p:cNvCxnSpPr>
            <p:nvPr/>
          </p:nvCxnSpPr>
          <p:spPr>
            <a:xfrm>
              <a:off x="8623080" y="49039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" name="Line 57"/>
            <p:cNvSpPr/>
            <p:nvPr/>
          </p:nvSpPr>
          <p:spPr>
            <a:xfrm flipV="1">
              <a:off x="860436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8"/>
            <p:cNvSpPr/>
            <p:nvPr/>
          </p:nvSpPr>
          <p:spPr>
            <a:xfrm>
              <a:off x="817236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9"/>
          <p:cNvSpPr/>
          <p:nvPr/>
        </p:nvSpPr>
        <p:spPr>
          <a:xfrm>
            <a:off x="539640" y="472428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uft/ H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0"/>
          <p:cNvSpPr/>
          <p:nvPr/>
        </p:nvSpPr>
        <p:spPr>
          <a:xfrm flipH="1">
            <a:off x="324000" y="4869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1"/>
          <p:cNvSpPr/>
          <p:nvPr/>
        </p:nvSpPr>
        <p:spPr>
          <a:xfrm>
            <a:off x="7818840" y="4724280"/>
            <a:ext cx="61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2"/>
          <p:cNvSpPr/>
          <p:nvPr/>
        </p:nvSpPr>
        <p:spPr>
          <a:xfrm>
            <a:off x="8388360" y="4941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3"/>
          <p:cNvGrpSpPr/>
          <p:nvPr/>
        </p:nvGrpSpPr>
        <p:grpSpPr>
          <a:xfrm>
            <a:off x="1258920" y="2852280"/>
            <a:ext cx="650880" cy="719280"/>
            <a:chOff x="1258920" y="2852280"/>
            <a:chExt cx="650880" cy="719280"/>
          </a:xfrm>
        </p:grpSpPr>
        <p:cxnSp>
          <p:nvCxnSpPr>
            <p:cNvPr id="107" name="AutoShape 64"/>
            <p:cNvCxnSpPr/>
            <p:nvPr/>
          </p:nvCxnSpPr>
          <p:spPr>
            <a:xfrm>
              <a:off x="1547280" y="2852280"/>
              <a:ext cx="1080" cy="1080"/>
            </a:xfrm>
            <a:prstGeom prst="straightConnector1">
              <a:avLst/>
            </a:prstGeom>
            <a:ln w="9360">
              <a:solidFill>
                <a:srgbClr val="92d4d4"/>
              </a:solidFill>
              <a:miter/>
            </a:ln>
          </p:spPr>
        </p:cxnSp>
        <p:sp>
          <p:nvSpPr>
            <p:cNvPr id="108" name="Oval 65"/>
            <p:cNvSpPr/>
            <p:nvPr/>
          </p:nvSpPr>
          <p:spPr>
            <a:xfrm>
              <a:off x="1258920" y="2923920"/>
              <a:ext cx="43344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6"/>
            <p:cNvSpPr/>
            <p:nvPr/>
          </p:nvSpPr>
          <p:spPr>
            <a:xfrm>
              <a:off x="1476360" y="313992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8"/>
          <p:cNvGrpSpPr/>
          <p:nvPr/>
        </p:nvGrpSpPr>
        <p:grpSpPr>
          <a:xfrm>
            <a:off x="2812320" y="2864880"/>
            <a:ext cx="567000" cy="538200"/>
            <a:chOff x="2812320" y="2864880"/>
            <a:chExt cx="567000" cy="538200"/>
          </a:xfrm>
        </p:grpSpPr>
        <p:sp>
          <p:nvSpPr>
            <p:cNvPr id="111" name="Oval 69"/>
            <p:cNvSpPr/>
            <p:nvPr/>
          </p:nvSpPr>
          <p:spPr>
            <a:xfrm rot="6097200">
              <a:off x="2907360" y="2931120"/>
              <a:ext cx="433440" cy="43200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0000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0"/>
            <p:cNvSpPr/>
            <p:nvPr/>
          </p:nvSpPr>
          <p:spPr>
            <a:xfrm rot="6097200">
              <a:off x="3165840" y="28778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1"/>
            <p:cNvSpPr/>
            <p:nvPr/>
          </p:nvSpPr>
          <p:spPr>
            <a:xfrm rot="6097200">
              <a:off x="2825280" y="31014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0"/>
          <p:cNvGrpSpPr/>
          <p:nvPr/>
        </p:nvGrpSpPr>
        <p:grpSpPr>
          <a:xfrm>
            <a:off x="7451640" y="3068640"/>
            <a:ext cx="430200" cy="361800"/>
            <a:chOff x="7451640" y="3068640"/>
            <a:chExt cx="430200" cy="361800"/>
          </a:xfrm>
        </p:grpSpPr>
        <p:sp>
          <p:nvSpPr>
            <p:cNvPr id="115" name="Oval 74"/>
            <p:cNvSpPr/>
            <p:nvPr/>
          </p:nvSpPr>
          <p:spPr>
            <a:xfrm>
              <a:off x="7594560" y="3068640"/>
              <a:ext cx="28728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5"/>
            <p:cNvSpPr/>
            <p:nvPr/>
          </p:nvSpPr>
          <p:spPr>
            <a:xfrm>
              <a:off x="7451640" y="3141720"/>
              <a:ext cx="28764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81"/>
          <p:cNvSpPr/>
          <p:nvPr/>
        </p:nvSpPr>
        <p:spPr>
          <a:xfrm>
            <a:off x="5292720" y="5589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2"/>
          <p:cNvSpPr/>
          <p:nvPr/>
        </p:nvSpPr>
        <p:spPr>
          <a:xfrm>
            <a:off x="529272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3"/>
          <p:cNvSpPr/>
          <p:nvPr/>
        </p:nvSpPr>
        <p:spPr>
          <a:xfrm>
            <a:off x="615636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1"/>
          <p:cNvSpPr/>
          <p:nvPr/>
        </p:nvSpPr>
        <p:spPr>
          <a:xfrm>
            <a:off x="2627280" y="50846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2"/>
          <p:cNvSpPr/>
          <p:nvPr/>
        </p:nvSpPr>
        <p:spPr>
          <a:xfrm>
            <a:off x="3924360" y="4797360"/>
            <a:ext cx="1195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lektroly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Membr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3"/>
          <p:cNvSpPr/>
          <p:nvPr/>
        </p:nvSpPr>
        <p:spPr>
          <a:xfrm>
            <a:off x="5580000" y="5084640"/>
            <a:ext cx="844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4"/>
          <p:cNvSpPr/>
          <p:nvPr/>
        </p:nvSpPr>
        <p:spPr>
          <a:xfrm>
            <a:off x="4067280" y="105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st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5"/>
          <p:cNvSpPr/>
          <p:nvPr/>
        </p:nvSpPr>
        <p:spPr>
          <a:xfrm flipV="1">
            <a:off x="4572000" y="134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6"/>
          <p:cNvSpPr/>
          <p:nvPr/>
        </p:nvSpPr>
        <p:spPr>
          <a:xfrm>
            <a:off x="334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7"/>
          <p:cNvSpPr/>
          <p:nvPr/>
        </p:nvSpPr>
        <p:spPr>
          <a:xfrm>
            <a:off x="5508720" y="1197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7"/>
          <p:cNvSpPr/>
          <p:nvPr/>
        </p:nvSpPr>
        <p:spPr>
          <a:xfrm>
            <a:off x="6156360" y="2995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2"/>
          <p:cNvGrpSpPr/>
          <p:nvPr/>
        </p:nvGrpSpPr>
        <p:grpSpPr>
          <a:xfrm>
            <a:off x="6084720" y="3068640"/>
            <a:ext cx="504720" cy="360360"/>
            <a:chOff x="6084720" y="3068640"/>
            <a:chExt cx="504720" cy="360360"/>
          </a:xfrm>
        </p:grpSpPr>
        <p:grpSp>
          <p:nvGrpSpPr>
            <p:cNvPr id="129" name="Group 171"/>
            <p:cNvGrpSpPr/>
            <p:nvPr/>
          </p:nvGrpSpPr>
          <p:grpSpPr>
            <a:xfrm>
              <a:off x="6229080" y="3068640"/>
              <a:ext cx="360360" cy="360360"/>
              <a:chOff x="6229080" y="3068640"/>
              <a:chExt cx="360360" cy="360360"/>
            </a:xfrm>
          </p:grpSpPr>
          <p:sp>
            <p:nvSpPr>
              <p:cNvPr id="130" name="Oval 118"/>
              <p:cNvSpPr/>
              <p:nvPr/>
            </p:nvSpPr>
            <p:spPr>
              <a:xfrm>
                <a:off x="6229080" y="3140280"/>
                <a:ext cx="2872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20"/>
              <p:cNvSpPr/>
              <p:nvPr/>
            </p:nvSpPr>
            <p:spPr>
              <a:xfrm>
                <a:off x="6229080" y="3213360"/>
                <a:ext cx="142920" cy="1443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170"/>
              <p:cNvGrpSpPr/>
              <p:nvPr/>
            </p:nvGrpSpPr>
            <p:grpSpPr>
              <a:xfrm>
                <a:off x="6445080" y="3068640"/>
                <a:ext cx="144360" cy="144720"/>
                <a:chOff x="6445080" y="3068640"/>
                <a:chExt cx="144360" cy="144720"/>
              </a:xfrm>
            </p:grpSpPr>
            <p:sp>
              <p:nvSpPr>
                <p:cNvPr id="133" name="Line 124"/>
                <p:cNvSpPr/>
                <p:nvPr/>
              </p:nvSpPr>
              <p:spPr>
                <a:xfrm>
                  <a:off x="6445080" y="3140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25"/>
                <p:cNvSpPr/>
                <p:nvPr/>
              </p:nvSpPr>
              <p:spPr>
                <a:xfrm flipV="1">
                  <a:off x="6516360" y="306864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59"/>
            <p:cNvGrpSpPr/>
            <p:nvPr/>
          </p:nvGrpSpPr>
          <p:grpSpPr>
            <a:xfrm>
              <a:off x="6084720" y="3068640"/>
              <a:ext cx="215640" cy="144360"/>
              <a:chOff x="6084720" y="3068640"/>
              <a:chExt cx="215640" cy="144360"/>
            </a:xfrm>
          </p:grpSpPr>
          <p:sp>
            <p:nvSpPr>
              <p:cNvPr id="136" name="Oval 119"/>
              <p:cNvSpPr/>
              <p:nvPr/>
            </p:nvSpPr>
            <p:spPr>
              <a:xfrm>
                <a:off x="6084720" y="306864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28"/>
              <p:cNvSpPr/>
              <p:nvPr/>
            </p:nvSpPr>
            <p:spPr>
              <a:xfrm>
                <a:off x="6229080" y="306864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Line 166"/>
          <p:cNvSpPr/>
          <p:nvPr/>
        </p:nvSpPr>
        <p:spPr>
          <a:xfrm>
            <a:off x="5867280" y="357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83"/>
          <p:cNvGrpSpPr/>
          <p:nvPr/>
        </p:nvGrpSpPr>
        <p:grpSpPr>
          <a:xfrm>
            <a:off x="5867280" y="3573360"/>
            <a:ext cx="504720" cy="360360"/>
            <a:chOff x="5867280" y="3573360"/>
            <a:chExt cx="504720" cy="360360"/>
          </a:xfrm>
        </p:grpSpPr>
        <p:grpSp>
          <p:nvGrpSpPr>
            <p:cNvPr id="140" name="Group 184"/>
            <p:cNvGrpSpPr/>
            <p:nvPr/>
          </p:nvGrpSpPr>
          <p:grpSpPr>
            <a:xfrm>
              <a:off x="6011640" y="3573360"/>
              <a:ext cx="360360" cy="360360"/>
              <a:chOff x="6011640" y="3573360"/>
              <a:chExt cx="360360" cy="360360"/>
            </a:xfrm>
          </p:grpSpPr>
          <p:sp>
            <p:nvSpPr>
              <p:cNvPr id="141" name="Oval 185"/>
              <p:cNvSpPr/>
              <p:nvPr/>
            </p:nvSpPr>
            <p:spPr>
              <a:xfrm>
                <a:off x="6011640" y="3645000"/>
                <a:ext cx="2872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86"/>
              <p:cNvSpPr/>
              <p:nvPr/>
            </p:nvSpPr>
            <p:spPr>
              <a:xfrm>
                <a:off x="6011640" y="3718080"/>
                <a:ext cx="142920" cy="1443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187"/>
              <p:cNvGrpSpPr/>
              <p:nvPr/>
            </p:nvGrpSpPr>
            <p:grpSpPr>
              <a:xfrm>
                <a:off x="6227640" y="3573360"/>
                <a:ext cx="144360" cy="144720"/>
                <a:chOff x="6227640" y="3573360"/>
                <a:chExt cx="144360" cy="144720"/>
              </a:xfrm>
            </p:grpSpPr>
            <p:sp>
              <p:nvSpPr>
                <p:cNvPr id="144" name="Line 188"/>
                <p:cNvSpPr/>
                <p:nvPr/>
              </p:nvSpPr>
              <p:spPr>
                <a:xfrm>
                  <a:off x="6227640" y="364500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89"/>
                <p:cNvSpPr/>
                <p:nvPr/>
              </p:nvSpPr>
              <p:spPr>
                <a:xfrm flipV="1">
                  <a:off x="6298920" y="357336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190"/>
            <p:cNvGrpSpPr/>
            <p:nvPr/>
          </p:nvGrpSpPr>
          <p:grpSpPr>
            <a:xfrm>
              <a:off x="5867280" y="3573360"/>
              <a:ext cx="215640" cy="144360"/>
              <a:chOff x="5867280" y="3573360"/>
              <a:chExt cx="215640" cy="144360"/>
            </a:xfrm>
          </p:grpSpPr>
          <p:sp>
            <p:nvSpPr>
              <p:cNvPr id="147" name="Oval 191"/>
              <p:cNvSpPr/>
              <p:nvPr/>
            </p:nvSpPr>
            <p:spPr>
              <a:xfrm>
                <a:off x="5867280" y="357336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92"/>
              <p:cNvSpPr/>
              <p:nvPr/>
            </p:nvSpPr>
            <p:spPr>
              <a:xfrm>
                <a:off x="6011640" y="357336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194"/>
          <p:cNvGrpSpPr/>
          <p:nvPr/>
        </p:nvGrpSpPr>
        <p:grpSpPr>
          <a:xfrm>
            <a:off x="6227640" y="3068640"/>
            <a:ext cx="360360" cy="360360"/>
            <a:chOff x="6227640" y="3068640"/>
            <a:chExt cx="360360" cy="360360"/>
          </a:xfrm>
        </p:grpSpPr>
        <p:sp>
          <p:nvSpPr>
            <p:cNvPr id="150" name="Oval 195"/>
            <p:cNvSpPr/>
            <p:nvPr/>
          </p:nvSpPr>
          <p:spPr>
            <a:xfrm>
              <a:off x="6227640" y="3140280"/>
              <a:ext cx="28728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6"/>
            <p:cNvSpPr/>
            <p:nvPr/>
          </p:nvSpPr>
          <p:spPr>
            <a:xfrm>
              <a:off x="6227640" y="3213360"/>
              <a:ext cx="142920" cy="144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7"/>
            <p:cNvGrpSpPr/>
            <p:nvPr/>
          </p:nvGrpSpPr>
          <p:grpSpPr>
            <a:xfrm>
              <a:off x="6443640" y="3068640"/>
              <a:ext cx="144360" cy="144720"/>
              <a:chOff x="6443640" y="3068640"/>
              <a:chExt cx="144360" cy="144720"/>
            </a:xfrm>
          </p:grpSpPr>
          <p:sp>
            <p:nvSpPr>
              <p:cNvPr id="153" name="Line 198"/>
              <p:cNvSpPr/>
              <p:nvPr/>
            </p:nvSpPr>
            <p:spPr>
              <a:xfrm>
                <a:off x="6443640" y="3140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99"/>
              <p:cNvSpPr/>
              <p:nvPr/>
            </p:nvSpPr>
            <p:spPr>
              <a:xfrm flipV="1">
                <a:off x="6514920" y="306864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Group 200"/>
          <p:cNvGrpSpPr/>
          <p:nvPr/>
        </p:nvGrpSpPr>
        <p:grpSpPr>
          <a:xfrm>
            <a:off x="6084720" y="3068640"/>
            <a:ext cx="215640" cy="144360"/>
            <a:chOff x="6084720" y="3068640"/>
            <a:chExt cx="215640" cy="144360"/>
          </a:xfrm>
        </p:grpSpPr>
        <p:sp>
          <p:nvSpPr>
            <p:cNvPr id="156" name="Oval 201"/>
            <p:cNvSpPr/>
            <p:nvPr/>
          </p:nvSpPr>
          <p:spPr>
            <a:xfrm>
              <a:off x="6084720" y="3068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2"/>
            <p:cNvSpPr/>
            <p:nvPr/>
          </p:nvSpPr>
          <p:spPr>
            <a:xfrm>
              <a:off x="6229080" y="306864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04"/>
          <p:cNvGrpSpPr/>
          <p:nvPr/>
        </p:nvGrpSpPr>
        <p:grpSpPr>
          <a:xfrm>
            <a:off x="6012000" y="3573360"/>
            <a:ext cx="360360" cy="360360"/>
            <a:chOff x="6012000" y="3573360"/>
            <a:chExt cx="360360" cy="360360"/>
          </a:xfrm>
        </p:grpSpPr>
        <p:sp>
          <p:nvSpPr>
            <p:cNvPr id="159" name="Oval 205"/>
            <p:cNvSpPr/>
            <p:nvPr/>
          </p:nvSpPr>
          <p:spPr>
            <a:xfrm>
              <a:off x="6012000" y="3645000"/>
              <a:ext cx="28728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06"/>
            <p:cNvSpPr/>
            <p:nvPr/>
          </p:nvSpPr>
          <p:spPr>
            <a:xfrm>
              <a:off x="6012000" y="3718080"/>
              <a:ext cx="142920" cy="144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207"/>
            <p:cNvGrpSpPr/>
            <p:nvPr/>
          </p:nvGrpSpPr>
          <p:grpSpPr>
            <a:xfrm>
              <a:off x="6228000" y="3573360"/>
              <a:ext cx="144360" cy="144720"/>
              <a:chOff x="6228000" y="3573360"/>
              <a:chExt cx="144360" cy="144720"/>
            </a:xfrm>
          </p:grpSpPr>
          <p:sp>
            <p:nvSpPr>
              <p:cNvPr id="162" name="Line 208"/>
              <p:cNvSpPr/>
              <p:nvPr/>
            </p:nvSpPr>
            <p:spPr>
              <a:xfrm>
                <a:off x="6228000" y="3645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09"/>
              <p:cNvSpPr/>
              <p:nvPr/>
            </p:nvSpPr>
            <p:spPr>
              <a:xfrm flipV="1">
                <a:off x="6299280" y="35733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Group 210"/>
          <p:cNvGrpSpPr/>
          <p:nvPr/>
        </p:nvGrpSpPr>
        <p:grpSpPr>
          <a:xfrm>
            <a:off x="5867280" y="3573360"/>
            <a:ext cx="215640" cy="144360"/>
            <a:chOff x="5867280" y="3573360"/>
            <a:chExt cx="215640" cy="144360"/>
          </a:xfrm>
        </p:grpSpPr>
        <p:sp>
          <p:nvSpPr>
            <p:cNvPr id="165" name="Oval 211"/>
            <p:cNvSpPr/>
            <p:nvPr/>
          </p:nvSpPr>
          <p:spPr>
            <a:xfrm>
              <a:off x="5867280" y="35733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12"/>
            <p:cNvSpPr/>
            <p:nvPr/>
          </p:nvSpPr>
          <p:spPr>
            <a:xfrm>
              <a:off x="6011640" y="357336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Oval 214"/>
          <p:cNvSpPr/>
          <p:nvPr/>
        </p:nvSpPr>
        <p:spPr>
          <a:xfrm>
            <a:off x="2843280" y="3860640"/>
            <a:ext cx="433440" cy="432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22"/>
          <p:cNvGrpSpPr/>
          <p:nvPr/>
        </p:nvGrpSpPr>
        <p:grpSpPr>
          <a:xfrm>
            <a:off x="2771640" y="3933720"/>
            <a:ext cx="215640" cy="144360"/>
            <a:chOff x="2771640" y="3933720"/>
            <a:chExt cx="215640" cy="144360"/>
          </a:xfrm>
        </p:grpSpPr>
        <p:sp>
          <p:nvSpPr>
            <p:cNvPr id="169" name="Oval 223"/>
            <p:cNvSpPr/>
            <p:nvPr/>
          </p:nvSpPr>
          <p:spPr>
            <a:xfrm>
              <a:off x="2771640" y="3933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24"/>
            <p:cNvSpPr/>
            <p:nvPr/>
          </p:nvSpPr>
          <p:spPr>
            <a:xfrm>
              <a:off x="2916000" y="39337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25"/>
          <p:cNvGrpSpPr/>
          <p:nvPr/>
        </p:nvGrpSpPr>
        <p:grpSpPr>
          <a:xfrm>
            <a:off x="3132000" y="3860640"/>
            <a:ext cx="215640" cy="144360"/>
            <a:chOff x="3132000" y="3860640"/>
            <a:chExt cx="215640" cy="144360"/>
          </a:xfrm>
        </p:grpSpPr>
        <p:sp>
          <p:nvSpPr>
            <p:cNvPr id="172" name="Oval 226"/>
            <p:cNvSpPr/>
            <p:nvPr/>
          </p:nvSpPr>
          <p:spPr>
            <a:xfrm>
              <a:off x="3132000" y="3860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27"/>
            <p:cNvSpPr/>
            <p:nvPr/>
          </p:nvSpPr>
          <p:spPr>
            <a:xfrm>
              <a:off x="3276360" y="386064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29"/>
          <p:cNvGrpSpPr/>
          <p:nvPr/>
        </p:nvGrpSpPr>
        <p:grpSpPr>
          <a:xfrm>
            <a:off x="2716920" y="3201120"/>
            <a:ext cx="810360" cy="782640"/>
            <a:chOff x="2716920" y="3201120"/>
            <a:chExt cx="810360" cy="782640"/>
          </a:xfrm>
        </p:grpSpPr>
        <p:sp>
          <p:nvSpPr>
            <p:cNvPr id="175" name="Oval 230"/>
            <p:cNvSpPr/>
            <p:nvPr/>
          </p:nvSpPr>
          <p:spPr>
            <a:xfrm rot="14452800">
              <a:off x="3016800" y="347364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31"/>
            <p:cNvSpPr/>
            <p:nvPr/>
          </p:nvSpPr>
          <p:spPr>
            <a:xfrm rot="14452800">
              <a:off x="3175560" y="3251880"/>
              <a:ext cx="28692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32"/>
            <p:cNvSpPr/>
            <p:nvPr/>
          </p:nvSpPr>
          <p:spPr>
            <a:xfrm rot="14452800">
              <a:off x="2769480" y="3560040"/>
              <a:ext cx="28692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9259E-006 L -0.14931 0.0051 E">
                                      <p:cBhvr>
                                        <p:cTn id="1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0.10226 -1.48148E-006 E">
                                      <p:cBhvr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C -0.0059 -0.0007 -0.01458 0.00162 -0.01666 -0.00695 C -0.01892 -0.03403 -0.0191 -0.06181 -0.01562 -0.08889 C -0.01493 -0.10718 -0.01441 -0.125 -0.0125 -0.14306 C -0.01319 -0.15741 -0.01319 -0.1831 -0.01666 -0.19722 C -0.01701 -0.19861 -0.01875 -0.19861 -0.01979 -0.19861 C -0.02986 -0.19954 -0.03993 -0.19954 -0.05 -0.2 C -0.06389 -0.20047 -0.07778 -0.20093 -0.09166 -0.20139 C -0.10677 -0.20347 -0.1184 -0.20463 -0.13437 -0.20556 C -0.15347 -0.21412 -0.17465 -0.20116 -0.19375 -0.20972 C -0.20278 -0.20857 -0.2118 -0.20695 -0.22083 -0.20556 C -0.23767 -0.20996 -0.2566 -0.19931 -0.27396 -0.19861 C -0.29271 -0.19792 -0.31146 -0.19769 -0.33021 -0.19722 C -0.33264 -0.19676 -0.33559 -0.19792 -0.3375 -0.19584 C -0.33785 -0.19537 -0.33976 -0.18148 -0.34062 -0.17778 C -0.33993 -0.16505 -0.33889 -0.15533 -0.3375 -0.14306 C -0.33941 -0.12037 -0.34201 -0.09769 -0.34375 -0.075 C -0.34271 -0.06389 -0.34375 -0.0544 -0.34375 -0.04306 E">
                                      <p:cBhvr>
                                        <p:cTn id="5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81481E-006 C 0.00121 -0.01389 0.00035 -0.02824 0.00312 -0.04167 C 0.00399 -0.04584 0.00521 -0.05 0.00625 -0.05417 C 0.0066 -0.05556 0.00729 -0.05834 0.00729 -0.05834 C 0.00521 -0.10926 0.00937 -0.16019 0.00521 -0.21111 C 0.00521 -0.21389 0.00625 -0.26297 -0.00104 -0.26945 C -0.01094 -0.26621 -0.01893 -0.26713 -0.02917 -0.26806 C -0.03559 -0.27084 -0.04427 -0.27686 -0.05104 -0.27778 C -0.06563 -0.27963 -0.08021 -0.28195 -0.09479 -0.28473 C -0.12483 -0.28357 -0.15469 -0.28056 -0.18438 -0.275 C -0.20313 -0.27616 -0.22205 -0.27848 -0.24063 -0.28195 C -0.26059 -0.27963 -0.28021 -0.27662 -0.3 -0.27361 C -0.30469 -0.27778 -0.30799 -0.27477 -0.31354 -0.27361 C -0.31111 -0.26389 -0.3132 -0.275 -0.31354 -0.26528 C -0.31476 -0.23357 -0.31111 -0.20116 -0.31875 -0.17084 C -0.31754 -0.16574 -0.31771 -0.16806 -0.31771 -0.16389 E">
                                      <p:cBhvr>
                                        <p:cTn id="5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71 -0.16389 C -0.3158 -0.15116 -0.31302 -0.13889 -0.31041 -0.12639 C -0.30885 -0.11875 -0.30833 -0.11435 -0.30312 -0.10972 C -0.30156 -0.10347 -0.29791 -0.10417 -0.29791 -0.09722 E">
                                      <p:cBhvr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375 -0.04305 C -0.34705 -0.02986 -0.34879 -0.01759 -0.35105 -0.00416 C -0.35122 -0.003 -0.35278 0.00834 -0.35521 0.00834 E">
                                      <p:cBhvr>
                                        <p:cTn id="6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3.05556E-006 0.07338 E">
                                      <p:cBhvr>
                                        <p:cTn id="10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-0.33871 4.81481E-006 E">
                                      <p:cBhvr>
                                        <p:cTn id="10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35034 0.00533 E">
                                      <p:cBhvr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-0.14948 0.02107 E">
                                      <p:cBhvr>
                                        <p:cTn id="12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48 0.02107 L -0.18889 0.12593 E">
                                      <p:cBhvr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eck 1"/>
          <p:cNvSpPr/>
          <p:nvPr/>
        </p:nvSpPr>
        <p:spPr>
          <a:xfrm>
            <a:off x="576360" y="115920"/>
            <a:ext cx="795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Mercedes Blu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6:48:09Z</dcterms:created>
  <dc:creator>Tibor Stuhl</dc:creator>
  <dc:description/>
  <dc:language>en-US</dc:language>
  <cp:lastModifiedBy>martil</cp:lastModifiedBy>
  <dcterms:modified xsi:type="dcterms:W3CDTF">2012-05-15T08:16:42Z</dcterms:modified>
  <cp:revision>331</cp:revision>
  <dc:subject/>
  <dc:title>Vorteile:</dc:title>
</cp:coreProperties>
</file>